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41B-1BE9-40D6-82CD-F01934E7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D04-FBED-4D1F-85FC-EC091A33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04F-5632-468F-B254-05B0FA4E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2F8-0D1B-4252-ADD0-C00CED16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FEA1-4E23-4D12-9661-CA29E329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321E-D1FF-48D6-9689-C0E596DB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291A-2501-4D13-87C1-3A87D41C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595E-942B-417B-B225-686DC56A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CAE9-10EE-4CA1-AACC-2F087D8B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371A-468B-45D1-9AED-9CF37D9F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D9B2-38BD-49D3-9840-AB12A1B2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D02-FB9C-4FC1-AA2F-77C75678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849A-4DFC-463B-B7DB-58E3C26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F7C1-048E-4A80-B3CF-AA2044DA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530E-239F-4C11-8399-413A09C2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7B29-70C4-4CE9-9947-E51BE413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5E04-405C-408C-B271-B1357DAF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178-D3BA-4CC4-8FD8-52CDB698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F1F-F6EB-4E54-9132-10DFDD63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6B9-A5D5-49FB-9A6A-DFDFEE5F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E3C-E9B6-4D89-9E58-925497B9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A91-E33F-4E12-8B29-93C97D42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3FB-5303-4076-B4AA-8A1CCAD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2B9-D82F-49E5-9B0A-F26360F3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45C0-0533-4B94-A7CB-6D01997E03F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424A-CE34-4EA0-ADA1-A79DE1FFF58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СОВРЕМЕННЫЕ МЕТОДЫ ПРОГНОЗИРОВАНИЯ ДИНАМИКИ ОПАСНЫХ ФАКТОРОВ ПОЖАРА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Д.т.н., профессор  ПУЗАЧ С.В., к.т.н., доцент АНДРЕЕВ В.В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научные проблемы при разработке метода расчета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ходящихся на стыке различных научных дисциплин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 (тепломассообмен, химия, теория прочности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ый тепломасс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горении газообразных веществ и твердых частиц в условиях совместного воздействия ряда возмущающих течение факто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лучистый тепл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в оптически неоднородной двухфазной газовой среде в условиях турбулентного горения и его взаимного влияния на конвективный теплообмен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цес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огрева и газификации пожарной нагрузк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од тепловым воздействием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фазовые переход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испарение, конденсация, плавление) в условиях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вместное определение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го и напряженного состоя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ограждающих конструкций помещ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ТЕМАТИЧЕСКИЕ МОДЕЛИ РАСЧЕТА ДИНАМИКИ ОПАСНЫХ ФАКТОРОВ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610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личие моделей заключаетс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азном уровне детализаци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рмогазодинамической картины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4000" y="1557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04292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5600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411280" y="3429000"/>
            <a:ext cx="4105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ЫЕ (ДИФФЕРЕНЦИАЛЬНЫ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2700360" y="1268280"/>
            <a:ext cx="71928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4714920" y="1268280"/>
            <a:ext cx="115236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140360" y="1268280"/>
            <a:ext cx="0" cy="21607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900000" y="126828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Line 33"/>
          <p:cNvSpPr/>
          <p:nvPr/>
        </p:nvSpPr>
        <p:spPr>
          <a:xfrm flipV="1">
            <a:off x="8028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900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900000" y="40464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757440" y="188640"/>
            <a:ext cx="99010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объем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, огнетушащего вещества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2050920" y="1989000"/>
          <a:ext cx="655164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551640" cy="31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объем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ерхности равных давлений внутри и снаружи помещения, а также скоростей, равных нулю, в области проема являются плоскостями и совпадают друг с друго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692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ое преимущество: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0" y="1197000"/>
            <a:ext cx="9144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интеграль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ей более высокого уровня (зонных или полевых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у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еличины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ОФП на уровне рабочей з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 зависят от вида, свойств, места расположения горючего материала и геометрии помещен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                                 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(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ср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Z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де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рабочей зоны;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помещения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0" y="5013360"/>
            <a:ext cx="9144000" cy="13298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ла реализована в нормативных документа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ГОСТ 12.1.004-91, ГОСТ Р 12.3.047-98 для определения </a:t>
            </a: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обходимого времени эвакуации людей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(при высоте </a:t>
            </a:r>
            <a:r>
              <a:rPr b="1" i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Symbol"/>
                <a:ea typeface="Symbol"/>
              </a:rPr>
              <a:t>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6 м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зальные помещения: аналитическое решение (проемы работают только на «выброс»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ридоры: численное решение уравнений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4221000"/>
                <a:ext cx="1800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з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4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з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055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ФОРМУЛЫ ГОСТ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12.1.004-91 и методики СП 11 </a:t>
            </a: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692280"/>
            <a:ext cx="9144000" cy="85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е время эвакуации рассчитывается как произведение критической для человека продолжительности пожара на коэффициент безопасности. Предполагается, что каждый ОФП воздействует на человека независимо от других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: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повышенной                              по потере видимости:               по понижен. содержанию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мпературе:                                                                                                    кислорода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каждому из газообразных токсичных продуктов горения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прощение термогазодинамической картины пожара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проемы работают только на «выброс»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эффициент теплопотерь принимается постоянным;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удельный выход токсичных газов при сгорании 1 кг материала постоянен и не зависит от концентрации кислорода и т.д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0" y="11970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0" y="2781360"/>
                <a:ext cx="25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0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3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Rectangle 13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3059280" y="2708280"/>
                <a:ext cx="2663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5</m:t>
                                        </m:r>
                                        <m:r>
                                          <m:t xml:space="preserve">αE</m:t>
                                        </m:r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v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кр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В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6012000" y="2565360"/>
                <a:ext cx="3132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44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BL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O</m:t>
                                                </m:r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V</m:t>
                                            </m:r>
                                          </m:den>
                                        </m:f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7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3059280" y="3933720"/>
                <a:ext cx="25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B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20"/>
          <p:cNvSpPr/>
          <p:nvPr/>
        </p:nvSpPr>
        <p:spPr>
          <a:xfrm>
            <a:off x="0" y="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757440" y="26028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зон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номера зо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Object 7"/>
          <p:cNvGraphicFramePr/>
          <p:nvPr/>
        </p:nvGraphicFramePr>
        <p:xfrm>
          <a:off x="1332000" y="1916280"/>
          <a:ext cx="577512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57751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потолочный слой является плоскопараллельным потолку, равномерно прогретым и задымленны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зон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95280" y="4724280"/>
            <a:ext cx="302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2987280" y="2349360"/>
            <a:ext cx="1297080" cy="2374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900000" y="2637000"/>
            <a:ext cx="244800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конвективной колон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1484280"/>
            <a:ext cx="2448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припотолочного сло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2124000" y="2421000"/>
            <a:ext cx="0" cy="216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Содержа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 Введ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Опасные факторы пожар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новные задачи расчета динамики ОФП и их место при решени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актических задач пожарной безопасност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 Классификация современных методов расчета динамики ОФП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Интеграль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Зон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7. Полевые методы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8. Выбор модели для расчета динамики ОФП. Программы для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9. Заключ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3716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0" y="69228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преимущества: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использую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закономерности теплового и гидродинамического взаимодействия струйного течения со строительными конструкциями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условным разбиением  на  характерные области (критическая точка, область ускоренного течения, переходная область и область автомодельного течения).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0" y="2997360"/>
            <a:ext cx="91440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зон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и более высокого уровня (полевой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ам зон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случае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сложной термогазодинамической картины пожара основные допущения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зонной модели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(равномерно прогретый припотолочный слой и т.д.)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не соответствуют реальным условиям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иболее подробное описание процессов тепломассообмена при пожаре в помещении дают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ые (дифференциальные) модел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сновным их достоинством является то, что искомыми параметрами являю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я температур, скоростей, давлений, концентраций компонентов газовой среды и частиц дыма по всему объему помеще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евые модели наиболее сложны в математическом описании, так как они состоят из системы трех- или двумерных нестационарных дифференциальных уравнений в частных производных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05560" cy="14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0" name="Picture 2" descr="T1X"/>
          <p:cNvPicPr/>
          <p:nvPr/>
        </p:nvPicPr>
        <p:blipFill>
          <a:blip r:embed="rId1"/>
          <a:stretch/>
        </p:blipFill>
        <p:spPr>
          <a:xfrm>
            <a:off x="785880" y="1285920"/>
            <a:ext cx="7643880" cy="4000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1" name="Прямоугольник 10"/>
          <p:cNvSpPr/>
          <p:nvPr/>
        </p:nvSpPr>
        <p:spPr>
          <a:xfrm>
            <a:off x="2286000" y="5384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я температур в помещении при пожаре (поперечное сечени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6922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жар в помещении протекает в сложных термогазодинамических условиях пр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дновременном воздействии ряда возмущающих течение факто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изотермичность (отличие температур твердых поверхностей и газовых потоков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жимаемость (плотность газа не является постоянной величино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дольный и поперечный градиенты давления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дув на стенке (поступление в помещение продуктов внутренней деструктуризации материала твердых конструкций, тепломассообменная защита конструкци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лучени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текание химических реа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вухфазность (одновременное сосуществование нескольких фаз – газ +твердые частицы, газ+жидкость, газ+твердые частицы+жидкост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шероховатость поверхностей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ривизна поверх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ость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качки уплотне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ереход ламинарного режима течения в турбулентны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692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Допущения и упрощения реальной термогазодинамической картины процес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уществует локальное термодинамическое и химическое равновесие во всем объеме помещения, что позволяет использовать равновесное уравнение состоя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азовая среда является смесью идеальных газов, что дает удовлетворительное приближение в диапазонах температур и давлений, характерных при пожар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окальные скорости и температуры компонентов газовой смеси и твердых (или жидких) частиц одинаковы между собой в каждой точке пространства (односкоростная и однотемпературная модел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химическая реакция горения является одноступенчатой и необратимо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иссоциация и ионизация среды при высоких температурах не учитываетс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ые пульсации не влияют на теплофизические свойства среды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заимным влиянием турбулентности и излучения пренебрегаем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небрегается обратным влиянием горения на скорость газификации горючего материала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рмо- и бародиффузией пренебрегаем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2888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 турбулентного тепломасс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5715000" y="4786200"/>
            <a:ext cx="2786040" cy="928800"/>
          </a:xfrm>
          <a:prstGeom prst="rect">
            <a:avLst/>
          </a:pr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радиационного тепл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6429240" y="235728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4462560" y="504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03280" y="620640"/>
          <a:ext cx="6811920" cy="5708880"/>
        </p:xfrm>
        <a:graphic>
          <a:graphicData uri="http://schemas.openxmlformats.org/drawingml/2006/table">
            <a:tbl>
              <a:tblPr/>
              <a:tblGrid>
                <a:gridCol w="360360"/>
                <a:gridCol w="540000"/>
                <a:gridCol w="1268280"/>
                <a:gridCol w="4643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2О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1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463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62"/>
              <p:cNvSpPr txBox="1"/>
              <p:nvPr/>
            </p:nvSpPr>
            <p:spPr>
              <a:xfrm>
                <a:off x="3851280" y="1341360"/>
                <a:ext cx="3787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2" name="Rectangle 465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64"/>
              <p:cNvSpPr txBox="1"/>
              <p:nvPr/>
            </p:nvSpPr>
            <p:spPr>
              <a:xfrm>
                <a:off x="3851280" y="1844640"/>
                <a:ext cx="3755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67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66"/>
              <p:cNvSpPr txBox="1"/>
              <p:nvPr/>
            </p:nvSpPr>
            <p:spPr>
              <a:xfrm>
                <a:off x="3851280" y="2421000"/>
                <a:ext cx="3405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6" name="Rectangle 46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68"/>
              <p:cNvSpPr txBox="1"/>
              <p:nvPr/>
            </p:nvSpPr>
            <p:spPr>
              <a:xfrm>
                <a:off x="7236000" y="2421000"/>
                <a:ext cx="6508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471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70"/>
              <p:cNvSpPr txBox="1"/>
              <p:nvPr/>
            </p:nvSpPr>
            <p:spPr>
              <a:xfrm>
                <a:off x="2771640" y="0"/>
                <a:ext cx="410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¶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wF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72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14200" y="33336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зданий и сооружений, содержащих развитую систему помещений малого объема простой геометрической конфигураци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роведении имитационного моделирования для случаев, когда учет стохастического характера пожара является более важным, чем точное и детальное прогнозирование его характеристик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, где характерный размер очага пожара соизмерим с характерным размером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14200" y="33336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Зонная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и систем помещений простой геометрической конфигурации, линейные размеры которых соизмеримы между собой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большого объема, когда размер очага пожара существенно меньше размеров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рабочих зон, расположенных на разных уровнях в пределах одного помещения (наклонный зрительный зал кинотеатра, антресоли и т.д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14200" y="333360"/>
            <a:ext cx="87156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 сложной геометрической конфигурации, а также помещений с большим количеством внутренних преград (атриумы с системой галерей и примыкающих коридоров, многофункциональные центры со сложной системой вертикальных и горизонтальных связей и 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, в которых один из геометрических размеров гораздо больше (меньше) остальных (тоннели, закрытые автостоянки большой площади и.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иных случаев, когда применимость или информативность зонных и интегральных моделей вызывает сомнение (уникальные сооружения, распространение пожара по фасаду здания, необходимость учета работы систем противопожарной защиты, способных качественно изменить картину пожара, и т.д.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связи с переходом многих стран мира к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гибкому объектно ориентированному противопожарному нормировани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математическое моделирование пожаров становится определяющим звеном при решении различных задач пожарной безопасност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опро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очности и надежности метода расчета тепломассообмен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пожаре являе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ключевым в обеспечении безопасности люде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при выборе параметров систем противопожарной защиты и при проведении противопожарных мероприятий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оссийских стандартах безопасност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ГОСТ 12.1.004-91 и др.)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л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ложены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упрощенные методы расчета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еадекватные реальной термогазодинамической картине пожара и приводящие в ряде случаев к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занижению необходимого времени эвакуации людей в 2-3 раз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ОГРАММЫ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14200" y="714240"/>
            <a:ext cx="871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В качестве примера компьютерных программ, реализующих полевой метод моделирования, которые достаточно точно описывают поля скоростей, температур и концентраций на начальной стадии пожара, можно привести такие программные продукты как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HOENIC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ASMIN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FI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UENT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FX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. Вместе с тем для проведения расчетов могут быть использованы и другие программные комплексы, апробированные на основе сравнения с экспериментальными данным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638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ИМЕР  РАСЧЕТА С ИСПОЛЬЗОВАНИЕМ ПОЛЕВОЙ МОДЕЛИ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14200" y="1285920"/>
            <a:ext cx="8715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ЧЕТНОЕ ОБОСНОВАНИЕ БЕЗОПАСНОЙ ЭВАКУАЦИИ ЛЮДЕЙ ПРИ ВОЗНИКНОВЕНИИ ПОЖАРА В ТОРГОВОМ ЦЕНТРЕ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определения необходимого времени эвакуации из помещения высотой более 6 м (многосветное пространство) была составлена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роведения расчетов использована полевая (дифференциальная) модель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re Dynamic Simulator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А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6" name="Group 29"/>
          <p:cNvGrpSpPr/>
          <p:nvPr/>
        </p:nvGrpSpPr>
        <p:grpSpPr>
          <a:xfrm>
            <a:off x="1428840" y="684360"/>
            <a:ext cx="6643440" cy="5459040"/>
            <a:chOff x="1428840" y="684360"/>
            <a:chExt cx="6643440" cy="5459040"/>
          </a:xfrm>
        </p:grpSpPr>
        <p:pic>
          <p:nvPicPr>
            <p:cNvPr id="307" name="Picture 30" descr=""/>
            <p:cNvPicPr/>
            <p:nvPr/>
          </p:nvPicPr>
          <p:blipFill>
            <a:blip r:embed="rId1"/>
            <a:stretch/>
          </p:blipFill>
          <p:spPr>
            <a:xfrm>
              <a:off x="1428840" y="1159560"/>
              <a:ext cx="6643440" cy="44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32"/>
            <p:cNvSpPr/>
            <p:nvPr/>
          </p:nvSpPr>
          <p:spPr>
            <a:xfrm>
              <a:off x="4063680" y="5509800"/>
              <a:ext cx="209628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Источник пожара 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на этаже на отметке -3.900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Размеры 2х3х2 м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Text Box 33"/>
            <p:cNvSpPr/>
            <p:nvPr/>
          </p:nvSpPr>
          <p:spPr>
            <a:xfrm>
              <a:off x="1738440" y="5113800"/>
              <a:ext cx="1196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ерегородки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 flipV="1">
              <a:off x="5601240" y="5017320"/>
              <a:ext cx="5421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35"/>
            <p:cNvSpPr/>
            <p:nvPr/>
          </p:nvSpPr>
          <p:spPr>
            <a:xfrm>
              <a:off x="7032960" y="4470120"/>
              <a:ext cx="82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36"/>
            <p:cNvSpPr/>
            <p:nvPr/>
          </p:nvSpPr>
          <p:spPr>
            <a:xfrm>
              <a:off x="7032960" y="3612240"/>
              <a:ext cx="8251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37"/>
            <p:cNvSpPr/>
            <p:nvPr/>
          </p:nvSpPr>
          <p:spPr>
            <a:xfrm>
              <a:off x="7032240" y="2827440"/>
              <a:ext cx="8258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Text Box 38"/>
            <p:cNvSpPr/>
            <p:nvPr/>
          </p:nvSpPr>
          <p:spPr>
            <a:xfrm>
              <a:off x="7032240" y="2111760"/>
              <a:ext cx="825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V="1">
              <a:off x="2215080" y="3183840"/>
              <a:ext cx="491760" cy="18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 flipV="1">
              <a:off x="2215080" y="3870720"/>
              <a:ext cx="103428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V="1">
              <a:off x="2215080" y="4376160"/>
              <a:ext cx="1809360" cy="69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Text Box 42"/>
            <p:cNvSpPr/>
            <p:nvPr/>
          </p:nvSpPr>
          <p:spPr>
            <a:xfrm>
              <a:off x="5962320" y="5041080"/>
              <a:ext cx="1415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4334040" y="684360"/>
              <a:ext cx="109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Длина= 47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AutoShape 44"/>
            <p:cNvSpPr/>
            <p:nvPr/>
          </p:nvSpPr>
          <p:spPr>
            <a:xfrm rot="5400000">
              <a:off x="4673880" y="-1958400"/>
              <a:ext cx="180720" cy="60444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157320 h 6044400"/>
                <a:gd name="textAreaBottom" fmla="*/ 5887080 h 60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Б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6" name="Group 29"/>
          <p:cNvGrpSpPr/>
          <p:nvPr/>
        </p:nvGrpSpPr>
        <p:grpSpPr>
          <a:xfrm>
            <a:off x="2103480" y="928800"/>
            <a:ext cx="6254640" cy="5000040"/>
            <a:chOff x="2103480" y="928800"/>
            <a:chExt cx="6254640" cy="5000040"/>
          </a:xfrm>
        </p:grpSpPr>
        <p:pic>
          <p:nvPicPr>
            <p:cNvPr id="327" name="Picture 45" descr=""/>
            <p:cNvPicPr/>
            <p:nvPr/>
          </p:nvPicPr>
          <p:blipFill>
            <a:blip r:embed="rId1"/>
            <a:stretch/>
          </p:blipFill>
          <p:spPr>
            <a:xfrm>
              <a:off x="2103480" y="928800"/>
              <a:ext cx="475416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6"/>
            <p:cNvSpPr/>
            <p:nvPr/>
          </p:nvSpPr>
          <p:spPr>
            <a:xfrm>
              <a:off x="5670360" y="425736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5670360" y="3471120"/>
              <a:ext cx="75852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Text Box 48"/>
            <p:cNvSpPr/>
            <p:nvPr/>
          </p:nvSpPr>
          <p:spPr>
            <a:xfrm>
              <a:off x="5670360" y="2524320"/>
              <a:ext cx="7585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Text Box 49"/>
            <p:cNvSpPr/>
            <p:nvPr/>
          </p:nvSpPr>
          <p:spPr>
            <a:xfrm>
              <a:off x="5670360" y="172620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Text Box 50"/>
            <p:cNvSpPr/>
            <p:nvPr/>
          </p:nvSpPr>
          <p:spPr>
            <a:xfrm>
              <a:off x="5199480" y="4828680"/>
              <a:ext cx="130068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Text Box 52"/>
            <p:cNvSpPr/>
            <p:nvPr/>
          </p:nvSpPr>
          <p:spPr>
            <a:xfrm>
              <a:off x="7225560" y="2867400"/>
              <a:ext cx="1132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Высота= 29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AutoShape 53"/>
            <p:cNvSpPr/>
            <p:nvPr/>
          </p:nvSpPr>
          <p:spPr>
            <a:xfrm rot="10800000">
              <a:off x="6903720" y="1172160"/>
              <a:ext cx="239760" cy="3899160"/>
            </a:xfrm>
            <a:custGeom>
              <a:avLst/>
              <a:gdLst>
                <a:gd name="textAreaLeft" fmla="*/ 153360 w 239760"/>
                <a:gd name="textAreaRight" fmla="*/ 240120 w 239760"/>
                <a:gd name="textAreaTop" fmla="*/ 101520 h 3899160"/>
                <a:gd name="textAreaBottom" fmla="*/ 3797640 h 389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AutoShape 54"/>
            <p:cNvSpPr/>
            <p:nvPr/>
          </p:nvSpPr>
          <p:spPr>
            <a:xfrm flipV="1" rot="16200000">
              <a:off x="4511520" y="3512160"/>
              <a:ext cx="165960" cy="3809880"/>
            </a:xfrm>
            <a:custGeom>
              <a:avLst/>
              <a:gdLst>
                <a:gd name="textAreaLeft" fmla="*/ 106200 w 165960"/>
                <a:gd name="textAreaRight" fmla="*/ 166320 w 165960"/>
                <a:gd name="textAreaTop" fmla="*/ 99360 h 3809880"/>
                <a:gd name="textAreaBottom" fmla="*/ 371052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Text Box 55"/>
            <p:cNvSpPr/>
            <p:nvPr/>
          </p:nvSpPr>
          <p:spPr>
            <a:xfrm>
              <a:off x="3995280" y="5563440"/>
              <a:ext cx="129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Ширина= 26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2" name="Group 2"/>
          <p:cNvGrpSpPr/>
          <p:nvPr/>
        </p:nvGrpSpPr>
        <p:grpSpPr>
          <a:xfrm>
            <a:off x="1363680" y="642960"/>
            <a:ext cx="6208560" cy="5285880"/>
            <a:chOff x="1363680" y="642960"/>
            <a:chExt cx="6208560" cy="5285880"/>
          </a:xfrm>
        </p:grpSpPr>
        <p:sp>
          <p:nvSpPr>
            <p:cNvPr id="343" name="Text Box 3"/>
            <p:cNvSpPr/>
            <p:nvPr/>
          </p:nvSpPr>
          <p:spPr>
            <a:xfrm>
              <a:off x="1602360" y="5605920"/>
              <a:ext cx="5826960" cy="32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2000" spc="-1" strike="noStrike">
                  <a:solidFill>
                    <a:srgbClr val="333333"/>
                  </a:solidFill>
                  <a:latin typeface="Calibri"/>
                </a:rPr>
                <a:t>Система координат трехмерной модели здания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44" name="Picture 4" descr=""/>
            <p:cNvPicPr/>
            <p:nvPr/>
          </p:nvPicPr>
          <p:blipFill>
            <a:blip r:embed="rId1"/>
            <a:stretch/>
          </p:blipFill>
          <p:spPr>
            <a:xfrm>
              <a:off x="1363680" y="642960"/>
              <a:ext cx="6208560" cy="434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0" name="Group 2"/>
          <p:cNvGrpSpPr/>
          <p:nvPr/>
        </p:nvGrpSpPr>
        <p:grpSpPr>
          <a:xfrm>
            <a:off x="1143000" y="500040"/>
            <a:ext cx="6786720" cy="5786640"/>
            <a:chOff x="1143000" y="500040"/>
            <a:chExt cx="6786720" cy="5786640"/>
          </a:xfrm>
        </p:grpSpPr>
        <p:sp>
          <p:nvSpPr>
            <p:cNvPr id="351" name="Text Box 3"/>
            <p:cNvSpPr/>
            <p:nvPr/>
          </p:nvSpPr>
          <p:spPr>
            <a:xfrm>
              <a:off x="1143000" y="6063480"/>
              <a:ext cx="678672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Температура в здании через 1, 3, 5 и 10 минут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52" name="Picture 4" descr=""/>
            <p:cNvPicPr/>
            <p:nvPr/>
          </p:nvPicPr>
          <p:blipFill>
            <a:blip r:embed="rId1"/>
            <a:stretch/>
          </p:blipFill>
          <p:spPr>
            <a:xfrm>
              <a:off x="2490120" y="508320"/>
              <a:ext cx="387000" cy="24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5" descr=""/>
            <p:cNvPicPr/>
            <p:nvPr/>
          </p:nvPicPr>
          <p:blipFill>
            <a:blip r:embed="rId2"/>
            <a:stretch/>
          </p:blipFill>
          <p:spPr>
            <a:xfrm>
              <a:off x="2490120" y="3412080"/>
              <a:ext cx="387000" cy="24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" descr=""/>
            <p:cNvPicPr/>
            <p:nvPr/>
          </p:nvPicPr>
          <p:blipFill>
            <a:blip r:embed="rId3"/>
            <a:stretch/>
          </p:blipFill>
          <p:spPr>
            <a:xfrm>
              <a:off x="3027960" y="500040"/>
              <a:ext cx="308592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" descr=""/>
            <p:cNvPicPr/>
            <p:nvPr/>
          </p:nvPicPr>
          <p:blipFill>
            <a:blip r:embed="rId4"/>
            <a:stretch/>
          </p:blipFill>
          <p:spPr>
            <a:xfrm>
              <a:off x="3027960" y="1866960"/>
              <a:ext cx="310500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"/>
            <p:cNvPicPr/>
            <p:nvPr/>
          </p:nvPicPr>
          <p:blipFill>
            <a:blip r:embed="rId5"/>
            <a:stretch/>
          </p:blipFill>
          <p:spPr>
            <a:xfrm>
              <a:off x="3027960" y="3234600"/>
              <a:ext cx="309564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"/>
            <p:cNvPicPr/>
            <p:nvPr/>
          </p:nvPicPr>
          <p:blipFill>
            <a:blip r:embed="rId6"/>
            <a:stretch/>
          </p:blipFill>
          <p:spPr>
            <a:xfrm>
              <a:off x="3027960" y="4601880"/>
              <a:ext cx="3095640" cy="13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3" name="Group 2"/>
          <p:cNvGrpSpPr/>
          <p:nvPr/>
        </p:nvGrpSpPr>
        <p:grpSpPr>
          <a:xfrm>
            <a:off x="1857240" y="357120"/>
            <a:ext cx="5857920" cy="5929560"/>
            <a:chOff x="1857240" y="357120"/>
            <a:chExt cx="5857920" cy="5929560"/>
          </a:xfrm>
        </p:grpSpPr>
        <p:sp>
          <p:nvSpPr>
            <p:cNvPr id="364" name="Text Box 3"/>
            <p:cNvSpPr/>
            <p:nvPr/>
          </p:nvSpPr>
          <p:spPr>
            <a:xfrm>
              <a:off x="1857240" y="5718600"/>
              <a:ext cx="58579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Видимость (в метрах) в здании через 1, 2, 3, 4, 5, 6, 8 и 10 минут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после начала пожара.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65" name="Picture 4" descr=""/>
            <p:cNvPicPr/>
            <p:nvPr/>
          </p:nvPicPr>
          <p:blipFill>
            <a:blip r:embed="rId1"/>
            <a:stretch/>
          </p:blipFill>
          <p:spPr>
            <a:xfrm>
              <a:off x="1954800" y="357120"/>
              <a:ext cx="26805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5" descr=""/>
            <p:cNvPicPr/>
            <p:nvPr/>
          </p:nvPicPr>
          <p:blipFill>
            <a:blip r:embed="rId2"/>
            <a:stretch/>
          </p:blipFill>
          <p:spPr>
            <a:xfrm>
              <a:off x="4590720" y="35712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6" descr=""/>
            <p:cNvPicPr/>
            <p:nvPr/>
          </p:nvPicPr>
          <p:blipFill>
            <a:blip r:embed="rId3"/>
            <a:stretch/>
          </p:blipFill>
          <p:spPr>
            <a:xfrm>
              <a:off x="7292160" y="37944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7" descr=""/>
            <p:cNvPicPr/>
            <p:nvPr/>
          </p:nvPicPr>
          <p:blipFill>
            <a:blip r:embed="rId4"/>
            <a:stretch/>
          </p:blipFill>
          <p:spPr>
            <a:xfrm>
              <a:off x="7292160" y="279000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8" descr=""/>
            <p:cNvPicPr/>
            <p:nvPr/>
          </p:nvPicPr>
          <p:blipFill>
            <a:blip r:embed="rId5"/>
            <a:stretch/>
          </p:blipFill>
          <p:spPr>
            <a:xfrm>
              <a:off x="192204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"/>
            <p:cNvPicPr/>
            <p:nvPr/>
          </p:nvPicPr>
          <p:blipFill>
            <a:blip r:embed="rId6"/>
            <a:stretch/>
          </p:blipFill>
          <p:spPr>
            <a:xfrm>
              <a:off x="459072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0" descr=""/>
            <p:cNvPicPr/>
            <p:nvPr/>
          </p:nvPicPr>
          <p:blipFill>
            <a:blip r:embed="rId7"/>
            <a:stretch/>
          </p:blipFill>
          <p:spPr>
            <a:xfrm>
              <a:off x="1922040" y="299268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1" descr=""/>
            <p:cNvPicPr/>
            <p:nvPr/>
          </p:nvPicPr>
          <p:blipFill>
            <a:blip r:embed="rId8"/>
            <a:stretch/>
          </p:blipFill>
          <p:spPr>
            <a:xfrm>
              <a:off x="4590720" y="2992680"/>
              <a:ext cx="2680560" cy="12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2" descr=""/>
            <p:cNvPicPr/>
            <p:nvPr/>
          </p:nvPicPr>
          <p:blipFill>
            <a:blip r:embed="rId9"/>
            <a:stretch/>
          </p:blipFill>
          <p:spPr>
            <a:xfrm>
              <a:off x="1922040" y="4299120"/>
              <a:ext cx="267192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3" descr=""/>
            <p:cNvPicPr/>
            <p:nvPr/>
          </p:nvPicPr>
          <p:blipFill>
            <a:blip r:embed="rId10"/>
            <a:stretch/>
          </p:blipFill>
          <p:spPr>
            <a:xfrm>
              <a:off x="4590720" y="4299120"/>
              <a:ext cx="2671920" cy="127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0" name="Group 2"/>
          <p:cNvGrpSpPr/>
          <p:nvPr/>
        </p:nvGrpSpPr>
        <p:grpSpPr>
          <a:xfrm>
            <a:off x="934920" y="428760"/>
            <a:ext cx="7208640" cy="5786280"/>
            <a:chOff x="934920" y="428760"/>
            <a:chExt cx="7208640" cy="5786280"/>
          </a:xfrm>
        </p:grpSpPr>
        <p:pic>
          <p:nvPicPr>
            <p:cNvPr id="381" name="Picture 3" descr=""/>
            <p:cNvPicPr/>
            <p:nvPr/>
          </p:nvPicPr>
          <p:blipFill>
            <a:blip r:embed="rId1"/>
            <a:stretch/>
          </p:blipFill>
          <p:spPr>
            <a:xfrm>
              <a:off x="934920" y="428760"/>
              <a:ext cx="7110720" cy="53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4"/>
            <p:cNvSpPr/>
            <p:nvPr/>
          </p:nvSpPr>
          <p:spPr>
            <a:xfrm>
              <a:off x="1021320" y="5846760"/>
              <a:ext cx="7122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Уровень видимости в здании в зависимости от высоты и от времени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1715400" y="2159280"/>
              <a:ext cx="6245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56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ЕЗУЛЬТАТЫ  РАСЧЕТА КРИТИЧЕСКОЙ ПРОДОЛЖИТЕЛЬНОСТИ ПОЖАРА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42960" y="1214280"/>
          <a:ext cx="8286840" cy="4927680"/>
        </p:xfrm>
        <a:graphic>
          <a:graphicData uri="http://schemas.openxmlformats.org/drawingml/2006/table">
            <a:tbl>
              <a:tblPr/>
              <a:tblGrid>
                <a:gridCol w="730080"/>
                <a:gridCol w="5078520"/>
                <a:gridCol w="2478240"/>
              </a:tblGrid>
              <a:tr h="131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Этаж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 достижения критического значения ОФП, 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ФП, определяющий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б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.7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.0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5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0" y="333360"/>
            <a:ext cx="9144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новные отличия современных методов расчета от нормативных состоят в учет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реальных парамет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возникновения, распространения и развития пожара, теплофизических и химических свойств конкретной горючей нагрузки и теплофизических свойств материала строительных конструкци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Разработанные методы расчета широко используются при решении практических задач пожаровзрывобезопасности. Результаты расчетов с использованием предложенных методов легли в основу технических условий пожарной безопасности ряда объектов промышленного и культурно-бытового назначения. Это позволило разработать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птимальные варианты противопожарной защит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с учетом обеспечения эффективности и приоритетности мероприятий по обеспечению безопасности людей при пожаре, технико-экономической целесообразности мероприятий, возможности доступа пожарных подразделений к очагу пожара и подачи средств пожаротушен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обая ценность этих методов состоит в возможности их применения для объектов, на которы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тсутствуют нормативные методы расчет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уровня пожарной безопасности (атриумы, многофункциональные здания и комплексы, закрытые горнолыжные трассы, высотные здания и т.д.)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00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Целью расчетов по математическим моделям тепломассообмена при пожаре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вляется прогнозирование динамики изменения параметров газовой среды помещения (в первую очередь,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, прогрева ограждающих конструкций и теплового или иного воздействия пожара на людей и материальные ценност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ценка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для различных сценариев их развития осуществляется на основе сопоставления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делировании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на территории производственного объекта и прилегающей к нему территории и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х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для жизни и здоровья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начениях опасных факторов анализируемых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(статья 96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0" y="0"/>
            <a:ext cx="91440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альнейшее развитие математического моделирования тепломассообмена при пожаре неразрывно связано и в решающей степени определяется прогрессом в област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физического (экспериментального) моделирования пожар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Повышение уровня достоверности расчетных методов будет определяться решающим образом качеством и количеством накопленной экспериментальной информации о характеристиках тепломассообмен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Наиболее перспективным направлением развития математического моделирования тепломассообмена при пожаре является дальнейшее совершенствова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ого (дифференциального)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Интегральные и зонные модели термогазодинамики пожара будут в основном использоваться для оценочных расчетов или в случаях определения параметров пожаров в достаточно хорошо изученных экспериментально условиях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Основными направлениями совершенствования полевых моделей являются следующие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витие методов расчета параметров физико-химических процессов, происходящих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 пламенной зоне и внутри горючего материал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математических моделей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ого тепломассообмена и лучистого теплоперено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а также взаимного влияния излучения и турбулент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пряже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й и прочностной задач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для ограждающих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спользование элементов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ероятностного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 algn="just">
              <a:spcBef>
                <a:spcPts val="601"/>
              </a:spcBef>
              <a:buClr>
                <a:srgbClr val="57896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е факторы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 факторы пожара, воздействие которых может привести к травме, отравлению или гибели человека и (или) к материальному ущербу (статья 2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хнический регламент о требованиях пожарной безопасности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 К опасным факторам пожара, воздействующим на людей и имущество, относятся (статья 9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08840" y="35712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4200" y="135684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личественном отношении кажды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й фактор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характеризуется одной или несколькими величинами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, 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ж, Вт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·кгˉ¹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т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²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°С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К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 (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bda9"/>
                </a:solidFill>
                <a:latin typeface="Times New Roman"/>
              </a:rPr>
              <a:t>L</a:t>
            </a:r>
            <a:r>
              <a:rPr b="0" lang="ru-RU" sz="1600" spc="-1" strike="noStrike">
                <a:solidFill>
                  <a:srgbClr val="a9bda9"/>
                </a:solidFill>
                <a:latin typeface="Times New Roman"/>
              </a:rPr>
              <a:t>вид = 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</a:rPr>
              <a:t>2,38</a:t>
            </a:r>
            <a:r>
              <a:rPr b="0" lang="en-US" sz="1600" spc="-1" strike="noStrike">
                <a:solidFill>
                  <a:srgbClr val="a9bda9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  <a:ea typeface="Times New Roman"/>
              </a:rPr>
              <a:t> 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42960" y="21420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еличины, характеризующи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5789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– критическая для жизни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мпература среды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помещении при пожаре,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343 К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i="1" lang="ru-RU" sz="2400" spc="-1" strike="noStrike" baseline="-25000">
                <a:solidFill>
                  <a:srgbClr val="333333"/>
                </a:solidFill>
                <a:latin typeface="Times New Roman"/>
              </a:rPr>
              <a:t>кр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– критическ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го газ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жизни человека: 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С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0011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дву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11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лор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l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023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 циан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N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фосген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Сl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окислы азота 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NO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серо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H2S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1,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кисло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22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дальность видимости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дыму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20 м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величина плотност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плового поток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человека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400 Вт/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проект методики оценки пожарного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иска для объектов общественного назначения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071720" y="285840"/>
            <a:ext cx="7215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е значения опасных факторов пожара        (СП 11.13130.2009, приложение А) </a:t>
            </a:r>
            <a:br>
              <a:rPr sz="1000"/>
            </a:br>
            <a:br>
              <a:rPr sz="10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4200" y="47592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задачи расчета динамики ОФП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 (необходимое время эвакуации)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фактические пределы огнестойкости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ремя срабатывания тепловых, дымовых, концентрационных, радиационных и комбинированных пожарных извещателе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ермогазодинамическая картина пожара (обстановка на пожаре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ые расстояния (для эвакуации людей и расстановки оборудования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ученные характеристики динамики ОФП применяются при решении следующих задач пожарной безопасност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нализ объемно-планировочных и конструктивных решений проектируемых, реконструируемых и существующих зданий и сооружений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ыбор и оптимизация толщин огнезащитных покрытий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ектирование автоматических систем пожарной сигнализации и автоматического пожаротуш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ведение пожарно-технических экспертиз и расследований пожа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работка планов эвакуации и пожаротуш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1:50:54Z</dcterms:created>
  <dc:creator>Пузач Сергей Викторович</dc:creator>
  <dc:description/>
  <dc:language>en-US</dc:language>
  <cp:lastModifiedBy>Лев Николаевич Григорьев</cp:lastModifiedBy>
  <dcterms:modified xsi:type="dcterms:W3CDTF">2010-05-12T05:45:01Z</dcterms:modified>
  <cp:revision>236</cp:revision>
  <dc:subject/>
  <dc:title>Математическое моделирование тепломассообмена  при пожаре в помещении со сложной геометрией</dc:title>
</cp:coreProperties>
</file>